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C29-38C5-4394-8A9F-950CF016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476-43C2-40E7-A0DC-79CFD7D7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5B7-CFF0-415E-85AB-5C658E21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E50-4F28-4D8C-9B95-86874557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9C2-44E1-4079-84D8-3FC2DA5E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1DD-8C74-4965-9534-4A97F45C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32C-DFB4-4DB5-A008-081B709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B68-A90B-4686-BDBB-3FFF4BA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27E-9D3F-45FE-B071-90AD44E2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274-1749-47A7-9AE7-A384EE66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A0A-B04A-4EEC-AB8B-27103E1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CB9-644F-4B29-B2FC-9CA0349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C6CE-9E66-48F0-92B5-EA876332C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IZA ECHILIBRULUI FINANCIAR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 X 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iect realizat de elev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zii fi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 informative despre socie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anta de verificare la data de 31.12.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anta de verificare la data de 31.12.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ii economico-financiari calculati pentru anul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ii economico-financiari calculati pentru anul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fice cu evolutia indicatorilor economico-finaciari in perioada 2007-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profesor</cp:lastModifiedBy>
  <dcterms:modified xsi:type="dcterms:W3CDTF">2010-02-26T09:28:01Z</dcterms:modified>
  <cp:revision>1</cp:revision>
  <dc:subject/>
  <dc:title>ANALIZA ECHILIBRULUI FINANCIAR LA  SC X SRL</dc:title>
</cp:coreProperties>
</file>